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6.wmf" ContentType="image/x-wmf"/>
  <Override PartName="/ppt/media/image7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9.png" ContentType="image/png"/>
  <Override PartName="/ppt/media/image10.png" ContentType="image/png"/>
  <Override PartName="/ppt/media/image28.wmf" ContentType="image/x-wmf"/>
  <Override PartName="/ppt/media/image14.wmf" ContentType="image/x-wmf"/>
  <Override PartName="/ppt/media/image29.png" ContentType="image/png"/>
  <Override PartName="/ppt/media/2001.wav" ContentType="audio/x-wav"/>
  <Override PartName="/ppt/media/whoosh.wav" ContentType="audio/x-wav"/>
  <Override PartName="/ppt/media/image13.wmf" ContentType="image/x-wmf"/>
  <Override PartName="/ppt/media/image5.jpeg" ContentType="image/jpeg"/>
  <Override PartName="/ppt/media/image3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3.jpeg" ContentType="image/jpeg"/>
  <Override PartName="/ppt/media/image25.wmf" ContentType="image/x-wmf"/>
  <Override PartName="/ppt/media/image1.png" ContentType="image/png"/>
  <Override PartName="/ppt/media/image24.png" ContentType="image/png"/>
  <Override PartName="/ppt/media/image11.jpeg" ContentType="image/jpeg"/>
  <Override PartName="/ppt/media/image15.wmf" ContentType="image/x-wmf"/>
  <Override PartName="/ppt/media/image17.png" ContentType="image/png"/>
  <Override PartName="/ppt/media/image21.wmf" ContentType="image/x-wmf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09F4F2-68CD-4E3B-81CB-DE0FE3DDC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7087-9DC4-421F-A70C-88CCFD94B043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142C-413D-432E-9E4A-C83AED33E4A3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FDD5-CDDE-4D86-9F73-16B15419B245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2A54-9E12-4E19-B724-DDDBEB37E147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4EC7-3B18-47E4-831F-FAC44E6536DA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26E4-2758-4C0E-AD73-4BAAEC227130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7469-2353-4F02-965C-DD93FF688628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759-9F79-47A8-9C60-DD8828E4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6AE-AE26-420F-8A9E-415728BE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2C4-7C52-4FD5-927D-50C12E98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3F5-F99A-494D-8E6A-E66A032A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210-DF39-4DAF-914D-87F1C7FA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BBD-9B98-4977-B1BE-5A55F41D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D9D-D310-4FFB-A6B9-DCE44548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B6E-7DE3-4ED5-A4D1-F8BAACB6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74D-AB91-4A1E-A9FC-883F71CD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2F3-5B45-4917-9002-19F8DB3D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A02-D759-4737-AA8C-2AD836E4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C81-BBC0-48D2-BD5B-8B178AEA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9723-33C5-41F5-94E0-1B2DB4F99E26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2001.wav"/><Relationship Id="rId3" Type="http://schemas.openxmlformats.org/officeDocument/2006/relationships/audio" Target="../media/2001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60320" y="901800"/>
            <a:ext cx="568332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cientific Measuremen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9100"/>
                </a:solidFill>
                <a:latin typeface="Comic Sans MS"/>
              </a:rPr>
              <a:t>UNITS OF MEASUR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349200" y="1476360"/>
            <a:ext cx="841392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4" marL="2000160" indent="-17136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ve SI base units commonly used by chemists are the meter, the kilogram, the kelvin, the second, and the mole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6" descr="002"/>
          <p:cNvPicPr/>
          <p:nvPr/>
        </p:nvPicPr>
        <p:blipFill>
          <a:blip r:embed="rId1"/>
          <a:stretch/>
        </p:blipFill>
        <p:spPr>
          <a:xfrm>
            <a:off x="685800" y="3048120"/>
            <a:ext cx="82296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International System of Un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times, 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non-SI unit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re u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ter, Celsius, calor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 are </a:t>
            </a:r>
            <a:r>
              <a:rPr b="1" lang="en-US" sz="3600" spc="-1" strike="noStrike" u="sng">
                <a:solidFill>
                  <a:srgbClr val="ffc000"/>
                </a:solidFill>
                <a:uFillTx/>
                <a:latin typeface="Arial"/>
              </a:rPr>
              <a:t>derived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un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y are made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oining other un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eed = miles/hour (distance/tim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nsity = grams/mL (mass/volum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Volume – a derived un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6240" y="1371240"/>
            <a:ext cx="8807400" cy="520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 unit = cubic meter (m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day unit = Liter (L), which is non-SI.    (Note: 1mL = 1cm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4"/>
          <p:cNvSpPr/>
          <p:nvPr/>
        </p:nvSpPr>
        <p:spPr>
          <a:xfrm>
            <a:off x="228600" y="380880"/>
            <a:ext cx="39178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olume of 20 drops of liquid from a medicine dropper is approximately 1 mL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005"/>
          <p:cNvPicPr/>
          <p:nvPr/>
        </p:nvPicPr>
        <p:blipFill>
          <a:blip r:embed="rId1"/>
          <a:stretch/>
        </p:blipFill>
        <p:spPr>
          <a:xfrm>
            <a:off x="762120" y="2666880"/>
            <a:ext cx="3423960" cy="3429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0"/>
          <p:cNvSpPr/>
          <p:nvPr/>
        </p:nvSpPr>
        <p:spPr>
          <a:xfrm>
            <a:off x="4800600" y="457200"/>
            <a:ext cx="368928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ugar cube has a volume of 1 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1 mL is the same as 1 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006"/>
          <p:cNvPicPr/>
          <p:nvPr/>
        </p:nvPicPr>
        <p:blipFill>
          <a:blip r:embed="rId2"/>
          <a:stretch/>
        </p:blipFill>
        <p:spPr>
          <a:xfrm>
            <a:off x="5305320" y="2133720"/>
            <a:ext cx="38386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Mass vs. Weigh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s:  Amount of Matter (grams, measured with a BAL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:  Force exerted by the mass, only present with gravity (pounds, measured with a SCA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kalarikenwoodiss008e07170"/>
          <p:cNvPicPr/>
          <p:nvPr/>
        </p:nvPicPr>
        <p:blipFill>
          <a:blip r:embed="rId1"/>
          <a:stretch/>
        </p:blipFill>
        <p:spPr>
          <a:xfrm>
            <a:off x="3857760" y="1676520"/>
            <a:ext cx="5286240" cy="39621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6"/>
          <p:cNvSpPr/>
          <p:nvPr/>
        </p:nvSpPr>
        <p:spPr>
          <a:xfrm>
            <a:off x="6781680" y="2209680"/>
            <a:ext cx="1981440" cy="838440"/>
          </a:xfrm>
          <a:prstGeom prst="wedgeRoundRectCallout">
            <a:avLst>
              <a:gd name="adj1" fmla="val -48476"/>
              <a:gd name="adj2" fmla="val 73675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934320" y="2286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you hear me now?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2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7770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Some Tools for Measur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96696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5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2286000" cy="62244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3"/>
          <a:stretch/>
        </p:blipFill>
        <p:spPr>
          <a:xfrm>
            <a:off x="3048120" y="3962520"/>
            <a:ext cx="207144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7" descr=""/>
          <p:cNvPicPr/>
          <p:nvPr/>
        </p:nvPicPr>
        <p:blipFill>
          <a:blip r:embed="rId4"/>
          <a:stretch/>
        </p:blipFill>
        <p:spPr>
          <a:xfrm>
            <a:off x="1676520" y="1828800"/>
            <a:ext cx="977760" cy="11174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8" descr=""/>
          <p:cNvPicPr/>
          <p:nvPr/>
        </p:nvPicPr>
        <p:blipFill>
          <a:blip r:embed="rId5"/>
          <a:stretch/>
        </p:blipFill>
        <p:spPr>
          <a:xfrm>
            <a:off x="380880" y="4648320"/>
            <a:ext cx="2057400" cy="1744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5486400" y="1981080"/>
            <a:ext cx="3352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ich tool(s) would you use to measure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temperatur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volum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time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weight</a:t>
            </a:r>
            <a:r>
              <a:rPr b="0" lang="en-US" sz="2100" spc="-1" strike="noStrike">
                <a:solidFill>
                  <a:srgbClr val="f8f8f8"/>
                </a:solidFill>
                <a:latin typeface="Arial"/>
              </a:rPr>
              <a:t>	</a:t>
            </a: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Round1.wav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556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2320" y="299880"/>
            <a:ext cx="7772400" cy="11448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27c"/>
                </a:solidFill>
                <a:latin typeface="Comic Sans MS"/>
              </a:rPr>
              <a:t>Learning Che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600" y="1980720"/>
            <a:ext cx="8418600" cy="45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at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7fc20"/>
                </a:solidFill>
                <a:latin typeface="Arial"/>
              </a:rPr>
              <a:t>L)  length</a:t>
            </a:r>
            <a:r>
              <a:rPr b="0" lang="en-US" sz="2800" spc="-1" strike="noStrike">
                <a:solidFill>
                  <a:srgbClr val="f7fc2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7fc20"/>
                </a:solidFill>
                <a:latin typeface="Arial"/>
              </a:rPr>
              <a:t>  M)  mass</a:t>
            </a:r>
            <a:r>
              <a:rPr b="0" lang="en-US" sz="2800" spc="-1" strike="noStrike">
                <a:solidFill>
                  <a:srgbClr val="f7fc2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7fc20"/>
                </a:solidFill>
                <a:latin typeface="Arial"/>
              </a:rPr>
              <a:t>     V)  volu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____ A.    A bag of tomatoes is 4.6 k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____ B.    A person is 2.0 m t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____ C.    A medication contains 0.50 g Aspir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____ D.    A bottle contains 1.5 L of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ject 4" descr=""/>
          <p:cNvPicPr/>
          <p:nvPr/>
        </p:nvPicPr>
        <p:blipFill>
          <a:blip r:embed="rId1"/>
          <a:stretch/>
        </p:blipFill>
        <p:spPr>
          <a:xfrm>
            <a:off x="7329600" y="3308400"/>
            <a:ext cx="1233360" cy="1241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99072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20"/>
                </a:solidFill>
                <a:latin typeface="Arial"/>
              </a:rPr>
              <a:t>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90720" y="3505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20"/>
                </a:solidFill>
                <a:latin typeface="Arial"/>
              </a:rPr>
              <a:t>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90720" y="4419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20"/>
                </a:solidFill>
                <a:latin typeface="Arial"/>
              </a:rPr>
              <a:t>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990720" y="5334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20"/>
                </a:solidFill>
                <a:latin typeface="Arial"/>
              </a:rPr>
              <a:t>V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HINK!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3374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3440" y="609120"/>
            <a:ext cx="681984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Comic Sans MS"/>
              </a:rPr>
              <a:t>Learning Che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hat are some S.I. units that are used to measure each of the follow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.  Length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.  volume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.  we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.  temper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1030320" cy="2433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2590920" y="31240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- Mete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438280" y="38862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- m3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362320" y="47242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- k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200400" y="5486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- 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Comic Sans MS"/>
              </a:rPr>
              <a:t>Metric Prefix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59840" indent="-15984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Kilo-</a:t>
            </a: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 means 1000 of that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3760" indent="-127800">
              <a:lnSpc>
                <a:spcPct val="130000"/>
              </a:lnSpc>
              <a:spcBef>
                <a:spcPts val="1049"/>
              </a:spcBef>
              <a:buClr>
                <a:srgbClr val="f7fc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1 kilometer (km)  =  1000 meters (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enti-</a:t>
            </a: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 means 1/100 of that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3760" indent="-127800">
              <a:lnSpc>
                <a:spcPct val="130000"/>
              </a:lnSpc>
              <a:spcBef>
                <a:spcPts val="1049"/>
              </a:spcBef>
              <a:buClr>
                <a:srgbClr val="f7fc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1 meter (m)  =  100 centimeters (c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3760" indent="-127800">
              <a:lnSpc>
                <a:spcPct val="130000"/>
              </a:lnSpc>
              <a:spcBef>
                <a:spcPts val="1049"/>
              </a:spcBef>
              <a:buClr>
                <a:srgbClr val="f7fc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1 dollar = 100 c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illi-</a:t>
            </a: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 means 1/1000 of that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3760" indent="-127800">
              <a:lnSpc>
                <a:spcPct val="130000"/>
              </a:lnSpc>
              <a:spcBef>
                <a:spcPts val="1049"/>
              </a:spcBef>
              <a:buClr>
                <a:srgbClr val="f7fc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1 Liter (L)   =  1000  milliliters (m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Comic Sans MS"/>
              </a:rPr>
              <a:t>Metric Prefix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metric"/>
          <p:cNvPicPr/>
          <p:nvPr/>
        </p:nvPicPr>
        <p:blipFill>
          <a:blip r:embed="rId1">
            <a:alphaModFix amt="66000"/>
          </a:blip>
          <a:stretch/>
        </p:blipFill>
        <p:spPr>
          <a:xfrm>
            <a:off x="1219320" y="1219320"/>
            <a:ext cx="6400800" cy="55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the fundamental units of S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 measurements to various units and scientific no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inguish accuracy and precision and relate it to significant fig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Determine the number of significant figures in measurement and the rules of rounding of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Comic Sans MS"/>
              </a:rPr>
              <a:t>Metric Prefix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metric examples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838080" y="1219320"/>
            <a:ext cx="7467840" cy="54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17440" y="1805040"/>
            <a:ext cx="8709120" cy="47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  1000 m  = 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) mm   b) km  c)  d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   0.001 g = 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) mg    b)  kg  c)  d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  0.1 L   =  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) mL    b)  cL  c)   d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   0.01 m =   1 ___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) mm   b) cm  c)  d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52320" y="299880"/>
            <a:ext cx="7772400" cy="11448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27c"/>
                </a:solidFill>
                <a:latin typeface="Comic Sans MS"/>
              </a:rPr>
              <a:t>Learning Che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2864880" y="18288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ddc223"/>
                </a:solidFill>
                <a:latin typeface="Arial"/>
              </a:rPr>
              <a:t>k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2977560" y="29718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ddc223"/>
                </a:solidFill>
                <a:latin typeface="Arial"/>
              </a:rPr>
              <a:t>m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2986200" y="55627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ddc223"/>
                </a:solidFill>
                <a:latin typeface="Arial"/>
              </a:rPr>
              <a:t>c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3053160" y="426708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ddc223"/>
                </a:solidFill>
                <a:latin typeface="Arial"/>
              </a:rPr>
              <a:t>dL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2320" y="299880"/>
            <a:ext cx="7772400" cy="11448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27c"/>
                </a:solidFill>
                <a:latin typeface="Comic Sans MS"/>
              </a:rPr>
              <a:t>Learning Che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160" y="1428480"/>
            <a:ext cx="8418600" cy="520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Select the unit you would use to measu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. Your he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) millimeters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mete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c) kilo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2. Your ma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) milligram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gram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c) kilogr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3. The distance between two ci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) millimete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mete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c) kilo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4.  The width of an art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) millimete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mete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c) kilometers</a:t>
            </a: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ight Arrow 3"/>
          <p:cNvSpPr/>
          <p:nvPr/>
        </p:nvSpPr>
        <p:spPr>
          <a:xfrm>
            <a:off x="4419720" y="2895480"/>
            <a:ext cx="11430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ight Arrow 4"/>
          <p:cNvSpPr/>
          <p:nvPr/>
        </p:nvSpPr>
        <p:spPr>
          <a:xfrm>
            <a:off x="6781680" y="4038480"/>
            <a:ext cx="11430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5"/>
          <p:cNvSpPr/>
          <p:nvPr/>
        </p:nvSpPr>
        <p:spPr>
          <a:xfrm>
            <a:off x="6705720" y="5257800"/>
            <a:ext cx="11430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ight Arrow 6"/>
          <p:cNvSpPr/>
          <p:nvPr/>
        </p:nvSpPr>
        <p:spPr>
          <a:xfrm>
            <a:off x="1981080" y="6400800"/>
            <a:ext cx="11430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8480" y="299880"/>
            <a:ext cx="7988400" cy="11448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27c"/>
                </a:solidFill>
                <a:latin typeface="Comic Sans MS"/>
              </a:rPr>
              <a:t>Conversion Fac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4880" y="1428480"/>
            <a:ext cx="827424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ractions in which the numerator and denominator are EQUAL quantities expressed in different un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4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 in. = 2.54 c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Factors: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  1 in.  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    and   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 2.54 cm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.54 cm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       1 in.</a:t>
            </a: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4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18ffd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2320" y="299880"/>
            <a:ext cx="7772400" cy="11448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a27c"/>
                </a:solidFill>
                <a:latin typeface="Comic Sans MS"/>
              </a:rPr>
              <a:t>Learning Che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579680"/>
            <a:ext cx="8345520" cy="527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rite conversion factors that relate each of the following pairs of uni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1.  Liters and 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2.  Hours and min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3.  Meters and kilome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5198400" y="411480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ddc223"/>
                </a:solidFill>
                <a:uFillTx/>
                <a:latin typeface="Arial"/>
              </a:rPr>
              <a:t>1h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ddc223"/>
                </a:solidFill>
                <a:latin typeface="Arial"/>
              </a:rPr>
              <a:t>60 mi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5037840" y="2666880"/>
            <a:ext cx="13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ddc223"/>
                </a:solidFill>
                <a:uFillTx/>
                <a:latin typeface="Arial"/>
              </a:rPr>
              <a:t>1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ddc223"/>
                </a:solidFill>
                <a:latin typeface="Arial"/>
              </a:rPr>
              <a:t>1000m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638040" y="2666880"/>
            <a:ext cx="13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ddc223"/>
                </a:solidFill>
                <a:uFillTx/>
                <a:latin typeface="Arial"/>
              </a:rPr>
              <a:t>1000m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ddc223"/>
                </a:solidFill>
                <a:latin typeface="Arial"/>
              </a:rPr>
              <a:t>1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6722640" y="411480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ddc223"/>
                </a:solidFill>
                <a:uFillTx/>
                <a:latin typeface="Arial"/>
              </a:rPr>
              <a:t>60 mi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ddc223"/>
                </a:solidFill>
                <a:latin typeface="Arial"/>
              </a:rPr>
              <a:t>1h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5730840" y="548640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ddc223"/>
                </a:solidFill>
                <a:uFillTx/>
                <a:latin typeface="Arial"/>
              </a:rPr>
              <a:t>1000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ddc223"/>
                </a:solidFill>
                <a:latin typeface="Arial"/>
              </a:rPr>
              <a:t>1k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7112160" y="548640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ddc223"/>
                </a:solidFill>
                <a:uFillTx/>
                <a:latin typeface="Arial"/>
              </a:rPr>
              <a:t>1k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ddc223"/>
                </a:solidFill>
                <a:latin typeface="Arial"/>
              </a:rPr>
              <a:t>1000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99072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How many minutes are in 2.5 hours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</a:rPr>
              <a:t>?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nversion fa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2.5 hr   x 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  60 min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=   150 min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1 h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cancel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H="1">
            <a:off x="1523880" y="2895480"/>
            <a:ext cx="457200" cy="5335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 flipH="1">
            <a:off x="3048120" y="3505320"/>
            <a:ext cx="457200" cy="457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 flipH="1" flipV="1">
            <a:off x="1676520" y="3429000"/>
            <a:ext cx="380880" cy="914400"/>
          </a:xfrm>
          <a:prstGeom prst="line">
            <a:avLst/>
          </a:prstGeom>
          <a:ln w="284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V="1">
            <a:off x="2057400" y="3962520"/>
            <a:ext cx="914400" cy="380880"/>
          </a:xfrm>
          <a:prstGeom prst="line">
            <a:avLst/>
          </a:prstGeom>
          <a:ln w="284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3276720" y="2362320"/>
            <a:ext cx="0" cy="68580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85800" y="5105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e2ff"/>
                </a:solidFill>
                <a:latin typeface="Arial"/>
              </a:rPr>
              <a:t>By using dimensional analysis / factor-label method, the UNITS ensure that you have the conversion right side up, and the UNITS are calculated as well as the numbers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teps to Problem Solv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1625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down the given amount.  Don’t forget the unit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by a fra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fraction as a conversion factor.  Determine if the top or the bottom should be the same unit as the given so that it will canc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a unit on the opposite side that will be the new unit.  If you don’t know a conversion between those units directly, use one that you do know that is a step toward the one you want at the e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the numbers on the conversion so that the top and the bottom amounts are EQUAL, but in different uni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and divide the units (Cancel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units are not the ones you want for your answer, make more conversions until you reach that poi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and divide the numbers.  Don’t forget “Please Excuse My Dear Aunt Sally”! (order of oper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earning Che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attlesnake is 2.44 m long. How long is the snake in c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)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2440 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b)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244 cm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c)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24.4 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attlesnake is 2.44 m long. How long is the snake in c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b)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244 cm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2.44 m   x   </a:t>
            </a:r>
            <a:r>
              <a:rPr b="1" lang="en-US" sz="3200" spc="-1" strike="noStrike" u="sng">
                <a:solidFill>
                  <a:srgbClr val="fcfeb9"/>
                </a:solidFill>
                <a:uFillTx/>
                <a:latin typeface="Arial"/>
              </a:rPr>
              <a:t>100 cm 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=  244 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1 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 flipH="1">
            <a:off x="2209680" y="4191120"/>
            <a:ext cx="4572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"/>
          <p:cNvSpPr/>
          <p:nvPr/>
        </p:nvSpPr>
        <p:spPr>
          <a:xfrm flipH="1">
            <a:off x="4114800" y="48006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seconds are in 1.4 day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Unit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days        hr         min       seco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 days   x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4 h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x    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3581280" y="3276720"/>
            <a:ext cx="457200" cy="0"/>
          </a:xfrm>
          <a:prstGeom prst="line">
            <a:avLst/>
          </a:prstGeom>
          <a:ln w="1908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029200" y="3276720"/>
            <a:ext cx="457200" cy="0"/>
          </a:xfrm>
          <a:prstGeom prst="line">
            <a:avLst/>
          </a:prstGeom>
          <a:ln w="1908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6553080" y="3276720"/>
            <a:ext cx="457200" cy="0"/>
          </a:xfrm>
          <a:prstGeom prst="line">
            <a:avLst/>
          </a:prstGeom>
          <a:ln w="1908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 flipH="1">
            <a:off x="1143000" y="4038480"/>
            <a:ext cx="914400" cy="45720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 flipH="1">
            <a:off x="2971800" y="4572000"/>
            <a:ext cx="914400" cy="45720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Comic Sans MS"/>
              </a:rPr>
              <a:t>Types of Observations and Measur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We ma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LITA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observations of reactions — changes in color and physical stat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We also ma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NTITATIVE MEASUREMENTS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, which involve 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numbers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U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I uni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— based on the metric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685800" y="1600200"/>
            <a:ext cx="7696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it a minut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What is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wrong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with the following setup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1.4 day     x   </a:t>
            </a:r>
            <a:r>
              <a:rPr b="0" lang="en-US" sz="3200" spc="-1" strike="noStrike" u="sng">
                <a:solidFill>
                  <a:srgbClr val="fcfeb9"/>
                </a:solidFill>
                <a:uFillTx/>
                <a:latin typeface="Arial"/>
              </a:rPr>
              <a:t>1 day  </a:t>
            </a: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   x   </a:t>
            </a:r>
            <a:r>
              <a:rPr b="0" lang="en-US" sz="3200" spc="-1" strike="noStrike" u="sng">
                <a:solidFill>
                  <a:srgbClr val="fcfeb9"/>
                </a:solidFill>
                <a:uFillTx/>
                <a:latin typeface="Arial"/>
              </a:rPr>
              <a:t>  60 min </a:t>
            </a: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   x </a:t>
            </a:r>
            <a:r>
              <a:rPr b="0" lang="en-US" sz="3200" spc="-1" strike="noStrike" u="sng">
                <a:solidFill>
                  <a:srgbClr val="fcfeb9"/>
                </a:solidFill>
                <a:uFillTx/>
                <a:latin typeface="Arial"/>
              </a:rPr>
              <a:t> 60 s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24 hr             1 hr           1 m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237600" y="4648320"/>
            <a:ext cx="87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.4 day     x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4hr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x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60 m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x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60 sec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=  120, 960sec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day             1 hr           1 mi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English and Metric Con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If you know ONE conversion for each type of measurement, you can convert anything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You mus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morize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and use these conversion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Mass:  454 grams  = 1 p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Length:     2.54 cm = 1 in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Volume:     0.946 L = 1 qu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0666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 adult human has 4.65 L of blood.  How many gallons of blood is that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Unit pl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               qt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gall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Equaliti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quart = 0.946 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gallon = 4 qu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Your Setup: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3581280" y="3200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5791320" y="3200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09480" y="59436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4.65L     x          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qt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x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gall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=  1.23gall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0.946L         4qt    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teps to Problem Solv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Read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Identify dat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Make a unit plan from the initial unit to the desired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Select conversion fa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Change initial unit to desired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Cancel units and che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Do math on calculator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Give an answer using significant fig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Object 4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668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Dealing with Two Uni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If your pace on a treadmill is 65 meters per minute, how many seconds will it take for you to walk a distance of  8450 feet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bject 4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352520" cy="30481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533520" y="434340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Conversion: 1Feet = 0.30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My Answer is: 2,340sec. Show your solu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at about Square and Cubic units? – Honors On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Use the conversion factors you already know, but when you square or cube the unit, don’t forget to cube the number also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Best way:  Square or cube the ENTIRE conversion fa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Example:  Convert 4.3 cm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to mm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371600" y="487692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4.3 cm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10 mm   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1 cm  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266688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1371600" y="53341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057400" y="472428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8f8f8"/>
                </a:solidFill>
                <a:latin typeface="Arial"/>
              </a:rPr>
              <a:t>(    )</a:t>
            </a:r>
            <a:endParaRPr b="1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038480" y="5105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800600" y="48769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4.3 cm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10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mm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cm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6324480" y="4876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4952880" y="53341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5638680" y="4876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 flipH="1">
            <a:off x="7010280" y="54864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5410080" y="6019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4300 m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 Nalgene water bottle holds 1000 cm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of dihydrogen monoxide (DHMO).  How many cubic decimeters is tha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10202_l"/>
          <p:cNvPicPr/>
          <p:nvPr/>
        </p:nvPicPr>
        <p:blipFill>
          <a:blip r:embed="rId1"/>
          <a:stretch/>
        </p:blipFill>
        <p:spPr>
          <a:xfrm>
            <a:off x="434340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1000 cm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     1 dm  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10 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2971800" y="1905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"/>
          <p:cNvSpPr/>
          <p:nvPr/>
        </p:nvSpPr>
        <p:spPr>
          <a:xfrm flipH="1">
            <a:off x="1142640" y="25909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666880" y="18288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cfeb9"/>
                </a:solidFill>
                <a:latin typeface="Arial"/>
              </a:rPr>
              <a:t>(    )</a:t>
            </a:r>
            <a:endParaRPr b="1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5181480" y="22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=   1 dm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62120" y="44197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eb9"/>
                </a:solidFill>
                <a:latin typeface="Arial"/>
              </a:rPr>
              <a:t>So, a dm</a:t>
            </a:r>
            <a:r>
              <a:rPr b="1" i="1" lang="en-US" sz="32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cfeb9"/>
                </a:solidFill>
                <a:latin typeface="Arial"/>
              </a:rPr>
              <a:t> is the same as a Liter !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eb9"/>
                </a:solidFill>
                <a:latin typeface="Arial"/>
              </a:rPr>
              <a:t>A cm</a:t>
            </a:r>
            <a:r>
              <a:rPr b="1" i="1" lang="en-US" sz="32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cfeb9"/>
                </a:solidFill>
                <a:latin typeface="Arial"/>
              </a:rPr>
              <a:t> is the same as a milliliter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Comic Sans MS"/>
              </a:rPr>
              <a:t>Temperature Scal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4343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7fc2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c20"/>
                </a:solidFill>
                <a:latin typeface="Arial"/>
              </a:rPr>
              <a:t>Fahrenhe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7fc2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c20"/>
                </a:solidFill>
                <a:latin typeface="Arial"/>
              </a:rPr>
              <a:t>Celsi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7fc2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c20"/>
                </a:solidFill>
                <a:latin typeface="Arial"/>
              </a:rPr>
              <a:t>Kelv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5435640" y="1854360"/>
            <a:ext cx="2449800" cy="3213360"/>
            <a:chOff x="5435640" y="1854360"/>
            <a:chExt cx="2449800" cy="3213360"/>
          </a:xfrm>
        </p:grpSpPr>
        <p:pic>
          <p:nvPicPr>
            <p:cNvPr id="243" name="Picture 5" descr=""/>
            <p:cNvPicPr/>
            <p:nvPr/>
          </p:nvPicPr>
          <p:blipFill>
            <a:blip r:embed="rId1"/>
            <a:stretch/>
          </p:blipFill>
          <p:spPr>
            <a:xfrm>
              <a:off x="5435640" y="1854360"/>
              <a:ext cx="2336760" cy="22604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919191"/>
              </a:outerShdw>
            </a:effectLst>
          </p:spPr>
        </p:pic>
        <p:sp>
          <p:nvSpPr>
            <p:cNvPr id="244" name="Rectangle 6"/>
            <p:cNvSpPr/>
            <p:nvPr/>
          </p:nvSpPr>
          <p:spPr>
            <a:xfrm>
              <a:off x="5850720" y="4368960"/>
              <a:ext cx="2034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ders Celsius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701-1744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7"/>
          <p:cNvGrpSpPr/>
          <p:nvPr/>
        </p:nvGrpSpPr>
        <p:grpSpPr>
          <a:xfrm>
            <a:off x="1434960" y="3645000"/>
            <a:ext cx="5574960" cy="2768400"/>
            <a:chOff x="1434960" y="3645000"/>
            <a:chExt cx="5574960" cy="2768400"/>
          </a:xfrm>
        </p:grpSpPr>
        <p:pic>
          <p:nvPicPr>
            <p:cNvPr id="246" name="Picture 8" descr=""/>
            <p:cNvPicPr/>
            <p:nvPr/>
          </p:nvPicPr>
          <p:blipFill>
            <a:blip r:embed="rId2"/>
            <a:stretch/>
          </p:blipFill>
          <p:spPr>
            <a:xfrm>
              <a:off x="1434960" y="3645000"/>
              <a:ext cx="2908440" cy="2768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919191"/>
              </a:outerShdw>
            </a:effectLst>
          </p:spPr>
        </p:pic>
        <p:sp>
          <p:nvSpPr>
            <p:cNvPr id="247" name="Rectangle 9"/>
            <p:cNvSpPr/>
            <p:nvPr/>
          </p:nvSpPr>
          <p:spPr>
            <a:xfrm>
              <a:off x="4554720" y="5359320"/>
              <a:ext cx="24552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rd Kelvin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William Thomson)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24-1907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Line 10"/>
          <p:cNvSpPr/>
          <p:nvPr/>
        </p:nvSpPr>
        <p:spPr>
          <a:xfrm>
            <a:off x="698400" y="1295280"/>
            <a:ext cx="7365960" cy="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Comic Sans MS"/>
              </a:rPr>
              <a:t>Temperature Scal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124080" y="1523880"/>
            <a:ext cx="1898640" cy="34164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7162920" y="1523880"/>
            <a:ext cx="1739880" cy="34164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181480" y="1523880"/>
            <a:ext cx="1739880" cy="341640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744120" y="5191200"/>
            <a:ext cx="6657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ice that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 kelvin = 1 degree Celsiu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851040" y="1295280"/>
            <a:ext cx="7823160" cy="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746280" y="2093760"/>
            <a:ext cx="21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c20"/>
                </a:solidFill>
                <a:latin typeface="Times New Roman"/>
              </a:rPr>
              <a:t>Boiling point of wate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838080" y="380988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c20"/>
                </a:solidFill>
                <a:latin typeface="Times New Roman"/>
              </a:rPr>
              <a:t>Freezing point of wate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5437080" y="160020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siu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1"/>
          <p:cNvGrpSpPr/>
          <p:nvPr/>
        </p:nvGrpSpPr>
        <p:grpSpPr>
          <a:xfrm>
            <a:off x="5467680" y="2286000"/>
            <a:ext cx="1415520" cy="2120760"/>
            <a:chOff x="5467680" y="2286000"/>
            <a:chExt cx="1415520" cy="2120760"/>
          </a:xfrm>
        </p:grpSpPr>
        <p:sp>
          <p:nvSpPr>
            <p:cNvPr id="259" name="Text Box 12"/>
            <p:cNvSpPr/>
            <p:nvPr/>
          </p:nvSpPr>
          <p:spPr>
            <a:xfrm>
              <a:off x="5467680" y="2286000"/>
              <a:ext cx="117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 ˚C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5722200" y="388620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 ˚C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4"/>
            <p:cNvSpPr/>
            <p:nvPr/>
          </p:nvSpPr>
          <p:spPr>
            <a:xfrm>
              <a:off x="5867280" y="27432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5"/>
            <p:cNvSpPr/>
            <p:nvPr/>
          </p:nvSpPr>
          <p:spPr>
            <a:xfrm>
              <a:off x="5792760" y="306216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˚C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6"/>
          <p:cNvSpPr/>
          <p:nvPr/>
        </p:nvSpPr>
        <p:spPr>
          <a:xfrm>
            <a:off x="7345080" y="160020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lvi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7"/>
          <p:cNvGrpSpPr/>
          <p:nvPr/>
        </p:nvGrpSpPr>
        <p:grpSpPr>
          <a:xfrm>
            <a:off x="7345080" y="2286000"/>
            <a:ext cx="1279800" cy="2120760"/>
            <a:chOff x="7345080" y="2286000"/>
            <a:chExt cx="1279800" cy="2120760"/>
          </a:xfrm>
        </p:grpSpPr>
        <p:sp>
          <p:nvSpPr>
            <p:cNvPr id="265" name="Text Box 18"/>
            <p:cNvSpPr/>
            <p:nvPr/>
          </p:nvSpPr>
          <p:spPr>
            <a:xfrm>
              <a:off x="7345080" y="2286000"/>
              <a:ext cx="10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73 K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9"/>
            <p:cNvSpPr/>
            <p:nvPr/>
          </p:nvSpPr>
          <p:spPr>
            <a:xfrm>
              <a:off x="7346520" y="3886200"/>
              <a:ext cx="10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73 K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0"/>
            <p:cNvSpPr/>
            <p:nvPr/>
          </p:nvSpPr>
          <p:spPr>
            <a:xfrm>
              <a:off x="7620120" y="27432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1"/>
            <p:cNvSpPr/>
            <p:nvPr/>
          </p:nvSpPr>
          <p:spPr>
            <a:xfrm>
              <a:off x="7544880" y="2971800"/>
              <a:ext cx="10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 K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22"/>
          <p:cNvSpPr/>
          <p:nvPr/>
        </p:nvSpPr>
        <p:spPr>
          <a:xfrm>
            <a:off x="3126600" y="160020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hrenhei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3"/>
          <p:cNvGrpSpPr/>
          <p:nvPr/>
        </p:nvGrpSpPr>
        <p:grpSpPr>
          <a:xfrm>
            <a:off x="3430800" y="2286000"/>
            <a:ext cx="1202760" cy="2120760"/>
            <a:chOff x="3430800" y="2286000"/>
            <a:chExt cx="1202760" cy="2120760"/>
          </a:xfrm>
        </p:grpSpPr>
        <p:sp>
          <p:nvSpPr>
            <p:cNvPr id="271" name="Text Box 24"/>
            <p:cNvSpPr/>
            <p:nvPr/>
          </p:nvSpPr>
          <p:spPr>
            <a:xfrm>
              <a:off x="3520080" y="388620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2 ˚F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5"/>
            <p:cNvSpPr/>
            <p:nvPr/>
          </p:nvSpPr>
          <p:spPr>
            <a:xfrm>
              <a:off x="3430800" y="2286000"/>
              <a:ext cx="113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12 ˚F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6"/>
            <p:cNvSpPr/>
            <p:nvPr/>
          </p:nvSpPr>
          <p:spPr>
            <a:xfrm>
              <a:off x="3657600" y="27432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7"/>
            <p:cNvSpPr/>
            <p:nvPr/>
          </p:nvSpPr>
          <p:spPr>
            <a:xfrm>
              <a:off x="3582720" y="3062160"/>
              <a:ext cx="10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80˚F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Stating a Measur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very measurement there is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70000"/>
              </a:lnSpc>
              <a:spcBef>
                <a:spcPts val="1199"/>
              </a:spcBef>
              <a:buClr>
                <a:srgbClr val="66ff33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Numb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llowed by 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70000"/>
              </a:lnSpc>
              <a:spcBef>
                <a:spcPts val="1199"/>
              </a:spcBef>
              <a:buClr>
                <a:srgbClr val="66ff33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 measuring de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should also be as precise as the measuremen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00400" y="6854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Comic Sans MS"/>
              </a:rPr>
              <a:t>Calculations Using Tempera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6840" y="2292480"/>
            <a:ext cx="7150320" cy="410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50000"/>
              </a:lnSpc>
              <a:spcBef>
                <a:spcPts val="1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ly require temp’s i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lvi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650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T  (K)  =  t (˚C)  +  273.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temp  =  37 ˚C  +  273  =  310 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quid nitrogen  =  -196 ˚C + 273 = 77 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647720" y="352440"/>
          <a:ext cx="125100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352440"/>
                    <a:ext cx="125100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Fahrenheit Formul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438280" y="3809880"/>
            <a:ext cx="4038840" cy="838440"/>
          </a:xfrm>
          <a:prstGeom prst="rect">
            <a:avLst/>
          </a:prstGeom>
          <a:solidFill>
            <a:srgbClr val="618ffd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80°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=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9°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.8°F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100°C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5°C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ro point:       0°C   =  32°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°F     = 9/5 °C   +  3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Celsius Formul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rrange to find T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°F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/5 °C   +  3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°F  - 32   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/5 °C  ( +32 - 3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°F  - 3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9/5 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/5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9/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°F  - 32)  * 5/9   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4724280" cy="838440"/>
          </a:xfrm>
          <a:prstGeom prst="rect">
            <a:avLst/>
          </a:prstGeom>
          <a:solidFill>
            <a:srgbClr val="618ffd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 flipH="1">
            <a:off x="3352320" y="3886200"/>
            <a:ext cx="685800" cy="457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 flipH="1">
            <a:off x="3733560" y="4495680"/>
            <a:ext cx="685800" cy="457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emperature Convers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on with hypothermia has a body temperature of 29.1°C. What is the body  temperature in °F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°F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/5 (29.1°C)     +  3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2.4   +   3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4.4°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Learning Check – Honors 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ormal temperature of a chickadee is 105.8°F.  What is that temperature in °C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)  73.8 °C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)  58.8 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3)  41.0 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Object 4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2236680" cy="2595600"/>
          </a:xfrm>
          <a:prstGeom prst="rect">
            <a:avLst/>
          </a:prstGeom>
          <a:ln w="0">
            <a:noFill/>
          </a:ln>
        </p:spPr>
      </p:pic>
      <p:sp>
        <p:nvSpPr>
          <p:cNvPr id="292" name="Right Arrow 4"/>
          <p:cNvSpPr/>
          <p:nvPr/>
        </p:nvSpPr>
        <p:spPr>
          <a:xfrm>
            <a:off x="228600" y="373392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Learning Check – Honors 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zza is baked at 455°F. What is that in °C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)  437 °C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)  235°C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3)  221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Object 4" descr=""/>
          <p:cNvPicPr/>
          <p:nvPr/>
        </p:nvPicPr>
        <p:blipFill>
          <a:blip r:embed="rId1"/>
          <a:stretch/>
        </p:blipFill>
        <p:spPr>
          <a:xfrm>
            <a:off x="4876920" y="27432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296" name="Right Arrow 6"/>
          <p:cNvSpPr/>
          <p:nvPr/>
        </p:nvSpPr>
        <p:spPr>
          <a:xfrm>
            <a:off x="228600" y="2666880"/>
            <a:ext cx="533520" cy="2286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1066680" y="2286000"/>
            <a:ext cx="26672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72880" y="1095480"/>
            <a:ext cx="846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A temperature of 30 degrees Celsius is equivalent to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3 K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0 K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43 K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47 K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bs00731_t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bs00731_t"/>
          <p:cNvPicPr/>
          <p:nvPr/>
        </p:nvPicPr>
        <p:blipFill>
          <a:blip r:embed="rId2"/>
          <a:stretch/>
        </p:blipFill>
        <p:spPr>
          <a:xfrm>
            <a:off x="4648320" y="1676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bs00731_t"/>
          <p:cNvPicPr/>
          <p:nvPr/>
        </p:nvPicPr>
        <p:blipFill>
          <a:blip r:embed="rId3"/>
          <a:stretch/>
        </p:blipFill>
        <p:spPr>
          <a:xfrm>
            <a:off x="6705720" y="1676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259092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457200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7391520" y="1219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>
            <a:off x="7315200" y="2362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6553080" y="15238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228600" y="18288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ree targets with three arrows each to shoot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Comic Sans MS"/>
              </a:rPr>
              <a:t>Can you hit the bull's-eye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51460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oth accurate and precis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4724280" y="36576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recise but not accurat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678168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either accurate nor precis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228600" y="3657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Comic Sans MS"/>
              </a:rPr>
              <a:t>How do they compare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1169280" y="5257800"/>
            <a:ext cx="67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 you define accuracy and precision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000"/>
                            </p:stCondLst>
                            <p:childTnLst>
                              <p:par>
                                <p:cTn id="76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76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7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8500"/>
                            </p:stCondLst>
                            <p:childTnLst>
                              <p:par>
                                <p:cTn id="78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9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700200" y="19044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uracy, Precision, and Erro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curac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eci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ility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is this related with significant figures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The greater the number of significant digits, the more precise the measurement and the lower the degree of uncertainty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ignificant Fig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e numbers reported in a measurement are limited by the measuring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gnificant figures in a measurement include the known digits plus one estimated dig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824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nternational System of Un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908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signs shown here, the distances are listed as numbers with no units attached. Without the units, it is impossible to communicate the measurement to others. When you make a measurement, you must assign the correct units to the numerical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001"/>
          <p:cNvPicPr/>
          <p:nvPr/>
        </p:nvPicPr>
        <p:blipFill>
          <a:blip r:embed="rId1"/>
          <a:stretch/>
        </p:blipFill>
        <p:spPr>
          <a:xfrm>
            <a:off x="5122800" y="1981080"/>
            <a:ext cx="3754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eading a Metersti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. . . I . . . . I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 . . .I . . . . I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.     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digit (known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?? 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digit (known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0.7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? 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digit (estimated) between 0.05- 0.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Length reported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75 c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74 cm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76 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4"/>
          <p:cNvSpPr/>
          <p:nvPr/>
        </p:nvSpPr>
        <p:spPr>
          <a:xfrm>
            <a:off x="762120" y="208116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762120" y="2133720"/>
            <a:ext cx="2971800" cy="0"/>
          </a:xfrm>
          <a:prstGeom prst="line">
            <a:avLst/>
          </a:prstGeom>
          <a:ln w="7632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nown + Estimated Dig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6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2.76 cm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990720" y="2895480"/>
            <a:ext cx="73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n dig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100% certai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ird digit 6 is estimated (uncertain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reported length, all three digits (2.76 cm) are significant including the estimated on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Counting Significant Figures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RULE 1. All non-zero digits in a measured number are significant.  Only a zero could indicate that rounding occurr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8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8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Significant Fig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38.15 cm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5.6 ft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65.6 lb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122.55 m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eading Zer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2. Leading zeros in decimal numbers are </a:t>
            </a:r>
            <a:r>
              <a:rPr b="1" lang="en-US" sz="2800" spc="-1" strike="noStrike">
                <a:solidFill>
                  <a:srgbClr val="3364ff"/>
                </a:solidFill>
                <a:latin typeface="Arial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ignificant. Only zeros at the right end of the number is significant if decimal is pres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Significant Fig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8 m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150 o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42 l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0262 m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ndwiched Zer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LE 3.  Zeros between nonzero numbers are significant. (They can not be rounded unless they are on an end of a number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mber of Significant Figures</a:t>
            </a:r>
            <a:r>
              <a:rPr b="0" lang="en-US" sz="1500" spc="-1" strike="noStrike">
                <a:solidFill>
                  <a:srgbClr val="00ae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.8 m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1 m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702 l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405 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railing Zer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4.  Trailing zeros in numbers without decimals are NOT significant. They are only serving as place holders.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umber of Significant Figures</a:t>
            </a:r>
            <a:r>
              <a:rPr b="0" lang="en-US" sz="2100" spc="-1" strike="noStrike">
                <a:solidFill>
                  <a:srgbClr val="00ae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,000 in.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. y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8,600 g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,005,000 g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Which answers contain 3 significant  figur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0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)   0.4760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  2)  0.00476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3)  4760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ll the zeros are significant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)   0.00307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  2)  25.300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3)  2.050 x 10</a:t>
            </a:r>
            <a:r>
              <a:rPr b="1" lang="en-US" sz="2800" spc="-1" strike="noStrike" baseline="30000">
                <a:solidFill>
                  <a:srgbClr val="618ffd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534,675 rounded to 3 significant  figures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10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)  535  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 2)  535,000   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3) 5.35 x 10</a:t>
            </a:r>
            <a:r>
              <a:rPr b="1" lang="en-US" sz="2800" spc="-1" strike="noStrike" baseline="30000">
                <a:solidFill>
                  <a:srgbClr val="618ffd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ight Arrow 3"/>
          <p:cNvSpPr/>
          <p:nvPr/>
        </p:nvSpPr>
        <p:spPr>
          <a:xfrm>
            <a:off x="4191120" y="396252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ight Arrow 4"/>
          <p:cNvSpPr/>
          <p:nvPr/>
        </p:nvSpPr>
        <p:spPr>
          <a:xfrm>
            <a:off x="4114800" y="266688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ight Arrow 5"/>
          <p:cNvSpPr/>
          <p:nvPr/>
        </p:nvSpPr>
        <p:spPr>
          <a:xfrm>
            <a:off x="6629400" y="396252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ight Arrow 6"/>
          <p:cNvSpPr/>
          <p:nvPr/>
        </p:nvSpPr>
        <p:spPr>
          <a:xfrm>
            <a:off x="6629400" y="563868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earning Che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ich set(s) do both numbers contain the </a:t>
            </a:r>
            <a:r>
              <a:rPr b="0" i="1" lang="en-US" sz="3200" spc="-1" strike="noStrike">
                <a:solidFill>
                  <a:srgbClr val="66ff33"/>
                </a:solidFill>
                <a:latin typeface="Arial"/>
              </a:rPr>
              <a:t>sam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significant figur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1)  22.0  and 22.00   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2)  400.0 and 40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3)  0.000015 and 150,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ight Arrow 3"/>
          <p:cNvSpPr/>
          <p:nvPr/>
        </p:nvSpPr>
        <p:spPr>
          <a:xfrm>
            <a:off x="914400" y="5638680"/>
            <a:ext cx="9907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the number of significant figures in each of the follow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A.   0.030 m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B.  4.050 L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3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C.  0.0008 g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D.  3.00 m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E.  2,080,000 bees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3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7</a:t>
            </a:r>
            <a:r>
              <a:rPr b="0" lang="en-US" sz="21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earning Che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ight Arrow 4"/>
          <p:cNvSpPr/>
          <p:nvPr/>
        </p:nvSpPr>
        <p:spPr>
          <a:xfrm>
            <a:off x="5638680" y="2666880"/>
            <a:ext cx="2286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ight Arrow 5"/>
          <p:cNvSpPr/>
          <p:nvPr/>
        </p:nvSpPr>
        <p:spPr>
          <a:xfrm>
            <a:off x="6553080" y="3276720"/>
            <a:ext cx="2286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ight Arrow 6"/>
          <p:cNvSpPr/>
          <p:nvPr/>
        </p:nvSpPr>
        <p:spPr>
          <a:xfrm>
            <a:off x="4724280" y="4038480"/>
            <a:ext cx="2286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ight Arrow 7"/>
          <p:cNvSpPr/>
          <p:nvPr/>
        </p:nvSpPr>
        <p:spPr>
          <a:xfrm>
            <a:off x="6629400" y="4800600"/>
            <a:ext cx="2286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ight Arrow 8"/>
          <p:cNvSpPr/>
          <p:nvPr/>
        </p:nvSpPr>
        <p:spPr>
          <a:xfrm>
            <a:off x="4800600" y="5486400"/>
            <a:ext cx="2286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2952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ignificant Numbers in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culated answer cannot be more precise than the measuring tool.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culated answer must match the least precise measure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figures are needed for final answers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 adding or subtrac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 multiplying or divi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838440" y="3805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Comic Sans MS"/>
              </a:rPr>
              <a:t>SI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 Système international d'unité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nly countries that have no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ficiall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dopted SI are Liberia (in western Africa) and Myanmar (a.k.a. Burma, in SE Asia), but now these are reportedly using metric regular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rication is a process that does not happen all at once, but is rather a process that happens over tim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hilippines, the metric system was adopted since January of 1983 (Cardenas, 20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304920" y="1219320"/>
            <a:ext cx="7696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outline-liberia"/>
          <p:cNvPicPr/>
          <p:nvPr/>
        </p:nvPicPr>
        <p:blipFill>
          <a:blip r:embed="rId1"/>
          <a:stretch/>
        </p:blipFill>
        <p:spPr>
          <a:xfrm>
            <a:off x="5715000" y="228600"/>
            <a:ext cx="3162240" cy="264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Myan"/>
          <p:cNvPicPr/>
          <p:nvPr/>
        </p:nvPicPr>
        <p:blipFill>
          <a:blip r:embed="rId2"/>
          <a:stretch/>
        </p:blipFill>
        <p:spPr>
          <a:xfrm>
            <a:off x="5486400" y="3786120"/>
            <a:ext cx="3657600" cy="3071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1"/>
          <p:cNvSpPr/>
          <p:nvPr/>
        </p:nvSpPr>
        <p:spPr>
          <a:xfrm>
            <a:off x="5715000" y="304812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formation from U.S. Metric Association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dding and Subtrac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swer has the same number of decimal places as the measurement with the fewest decimal plac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.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18ffd"/>
                </a:solidFill>
                <a:latin typeface="Arial"/>
              </a:rPr>
              <a:t>one decimal pl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+   1.</a:t>
            </a:r>
            <a:r>
              <a:rPr b="0" lang="en-US" sz="2800" spc="-1" strike="noStrike" u="sng">
                <a:solidFill>
                  <a:srgbClr val="618ffd"/>
                </a:solidFill>
                <a:uFillTx/>
                <a:latin typeface="Arial"/>
              </a:rPr>
              <a:t>34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618ffd"/>
                </a:solidFill>
                <a:latin typeface="Arial"/>
              </a:rPr>
              <a:t>two decimal pl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.5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2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618ffd"/>
                </a:solidFill>
                <a:latin typeface="Arial"/>
              </a:rPr>
              <a:t>one decimal pl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each calculation, round the answer to the correct number of significant figur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235.05   +   19.6  + 2.1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1) 256.75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   2) 256.8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3) 25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  58.925   -  18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1) 40.725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   2) 40.73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3) 40.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ight Arrow 3"/>
          <p:cNvSpPr/>
          <p:nvPr/>
        </p:nvSpPr>
        <p:spPr>
          <a:xfrm>
            <a:off x="3657600" y="388620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ight Arrow 4"/>
          <p:cNvSpPr/>
          <p:nvPr/>
        </p:nvSpPr>
        <p:spPr>
          <a:xfrm>
            <a:off x="6324480" y="5410080"/>
            <a:ext cx="6858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Multiplying and Divi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 (or add zeros) to the calculated answer until you have the same number of significant figures as the measurement with the fewest significant figur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  2.19  X  4.2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1)  9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2)  9.2   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3)   9.19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   4.311  ÷  0.070  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1)</a:t>
            </a:r>
            <a:r>
              <a:rPr b="1" lang="en-US" sz="3200" spc="-1" strike="noStrike" baseline="30000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61.58</a:t>
            </a:r>
            <a:r>
              <a:rPr b="1" lang="en-US" sz="3200" spc="-1" strike="noStrike" baseline="30000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618ffd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2)  62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3)   60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.54  X  0.002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.0105 X 0.0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1)  11.3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2)  11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    3)  0.04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ight Arrow 3"/>
          <p:cNvSpPr/>
          <p:nvPr/>
        </p:nvSpPr>
        <p:spPr>
          <a:xfrm>
            <a:off x="3505320" y="236232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ight Arrow 4"/>
          <p:cNvSpPr/>
          <p:nvPr/>
        </p:nvSpPr>
        <p:spPr>
          <a:xfrm>
            <a:off x="3581280" y="38098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ight Arrow 5"/>
          <p:cNvSpPr/>
          <p:nvPr/>
        </p:nvSpPr>
        <p:spPr>
          <a:xfrm>
            <a:off x="3505320" y="594360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What is Scientific Not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cientific notation is a way of expressing really big numbers or really small numbe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or very large and very small numbers, scientific notation is more conci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cientific notation consists of two part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789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11320" indent="-211320">
              <a:lnSpc>
                <a:spcPct val="90000"/>
              </a:lnSpc>
              <a:spcBef>
                <a:spcPts val="134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A number between 1 and 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13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1320" indent="-211320">
              <a:lnSpc>
                <a:spcPct val="90000"/>
              </a:lnSpc>
              <a:spcBef>
                <a:spcPts val="134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A power of 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132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8f8f8"/>
                </a:solidFill>
                <a:latin typeface="Arial"/>
              </a:rPr>
              <a:t>N x 10</a:t>
            </a:r>
            <a:r>
              <a:rPr b="0" lang="en-US" sz="6600" spc="-1" strike="noStrike" baseline="30000">
                <a:solidFill>
                  <a:srgbClr val="f8f8f8"/>
                </a:solidFill>
                <a:latin typeface="Arial"/>
              </a:rPr>
              <a:t>x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1132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To change standard form to scientific notati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Place the decimal point so that there is one non-zero digit to the left of the decimal poi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unt the number of decimal places the decimal point has “moved” from the original number.  This will be the exponent on the 1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f the original number was less than 1, then the exponent is negative.  If the original number was greater than 1, then the exponent is positiv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Given:  289,800,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Use:  2.898 (moved 8 plac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swer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898 x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Given: 0.00056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Use: 5.67 (moved 4 plac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swer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67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To change scientific notation to standard for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mply move the decimal point to the right for positive exponent 10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Move the decimal point to the left for negative exponent 1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(Use zeros to fill in places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Given: 5.093 x 10</a:t>
            </a:r>
            <a:r>
              <a:rPr b="1" lang="en-US" sz="3200" spc="-1" strike="noStrike" baseline="30000">
                <a:solidFill>
                  <a:srgbClr val="f8f8f8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swer: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,093,000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(moved 6 places to the righ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Given:  1.976 x 10</a:t>
            </a:r>
            <a:r>
              <a:rPr b="1" lang="en-US" sz="3200" spc="-1" strike="noStrike" baseline="30000">
                <a:solidFill>
                  <a:srgbClr val="f8f8f8"/>
                </a:solidFill>
                <a:latin typeface="Arial"/>
              </a:rPr>
              <a:t>-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swer: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.0001976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(moved 4 places to the lef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9627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Standards of Measur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we measure, we use a measuring tool to compare some dimension of an object to a stand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2535120" cy="2743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657600" y="27432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or example, at one time the standard for length was the king’s foot.  What are some problems with this standard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Dunadd%20kings%20foot"/>
          <p:cNvPicPr/>
          <p:nvPr/>
        </p:nvPicPr>
        <p:blipFill>
          <a:blip r:embed="rId2"/>
          <a:stretch/>
        </p:blipFill>
        <p:spPr>
          <a:xfrm>
            <a:off x="5029200" y="4343400"/>
            <a:ext cx="23623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Express these numbers in Scientific Nota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40578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0.00387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3000000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0.47826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43120"/>
          </a:xfrm>
          <a:prstGeom prst="rect">
            <a:avLst/>
          </a:prstGeom>
          <a:solidFill>
            <a:srgbClr val="ffcc99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223"/>
                </a:solidFill>
                <a:latin typeface="Times New Roman"/>
              </a:rPr>
              <a:t>Rounding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4880" y="1471320"/>
            <a:ext cx="877572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l numbers from a measurement are significant.  However, we often generat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nsignificant digi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when performing calcul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get rid of nonsignificant digits by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unding of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umbe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are four rules for rounding off numbe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43120"/>
          </a:xfrm>
          <a:prstGeom prst="rect">
            <a:avLst/>
          </a:prstGeom>
          <a:solidFill>
            <a:srgbClr val="ffcc99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223"/>
                </a:solidFill>
                <a:latin typeface="Times New Roman"/>
              </a:rPr>
              <a:t>Rules for Rounding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the first nonsignificant digit is less than 5, drop all nonsignificant digi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calculator displays 12.846239 and 3 significant digits are justifi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irst nonsignificant digit is a 4, so we drop all nonsignificant digits and get 12.8 as the answ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the first nonsignificant digit is greater than 5, increase the last significant digit by 1 and drop all nonsignificant digi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calculator display 12.865239 and 3 significant digits are justifi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irst nonsignificant digit is a 6, so the last significant digit is increased by one to 9, all the nonsignificant digits are dropped, and we get 12.9 as the answ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solidFill>
            <a:srgbClr val="ffcc99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223"/>
                </a:solidFill>
                <a:latin typeface="Arial"/>
              </a:rPr>
              <a:t>Rules for Rounding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43120"/>
          </a:xfrm>
          <a:prstGeom prst="rect">
            <a:avLst/>
          </a:prstGeom>
          <a:solidFill>
            <a:srgbClr val="ffcc99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223"/>
                </a:solidFill>
                <a:latin typeface="Times New Roman"/>
              </a:rPr>
              <a:t>Rounding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64880" y="1149120"/>
            <a:ext cx="8775720" cy="570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a)  If the last digit is 5 and is preceded by an odd number, then the last digit should be increased by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4.635 is rounded to 4.6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If the last digit is 5 but is preceded by an even number, then it stays the same or is rounded down by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4.625 is rounded to 4.6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 If a calculation has two or more operations, retain all nonsignificant digits until the final operation and then round off the answ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223"/>
                </a:solidFill>
                <a:latin typeface="Arial"/>
              </a:rPr>
              <a:t>International</a:t>
            </a:r>
            <a:r>
              <a:rPr b="0" lang="en-US" sz="3600" spc="-1" strike="noStrike">
                <a:solidFill>
                  <a:srgbClr val="ddc22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dc223"/>
                </a:solidFill>
                <a:latin typeface="Arial"/>
              </a:rPr>
              <a:t>System</a:t>
            </a:r>
            <a:r>
              <a:rPr b="0" lang="en-US" sz="3600" spc="-1" strike="noStrike">
                <a:solidFill>
                  <a:srgbClr val="ddc22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dc223"/>
                </a:solidFill>
                <a:latin typeface="Arial"/>
              </a:rPr>
              <a:t>of Un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0240" y="1218960"/>
            <a:ext cx="875340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223"/>
                </a:solidFill>
                <a:latin typeface="Arial"/>
              </a:rPr>
              <a:t>International System of Un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 base units, but only five commonly used in chemistry: meter, kilogram, kelvin, second, and mol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12:19:23Z</dcterms:created>
  <dc:creator>Neil Rapp</dc:creator>
  <dc:description/>
  <cp:keywords>measurement density introduction</cp:keywords>
  <dc:language>en-US</dc:language>
  <cp:lastModifiedBy>Riza</cp:lastModifiedBy>
  <cp:lastPrinted>1996-08-29T23:28:45Z</cp:lastPrinted>
  <dcterms:modified xsi:type="dcterms:W3CDTF">2012-02-03T04:39:33Z</dcterms:modified>
  <cp:revision>355</cp:revision>
  <dc:subject>High School Chemistry</dc:subject>
  <dc:title>Introduction to Chemistry and Measurement</dc:title>
</cp:coreProperties>
</file>